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3D3-D56D-4B9A-99D6-B9342A31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BA0-82C2-4165-BFE9-8CA9BDDD8F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6C1-9C38-4803-992F-167FA4F648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588-4512-4472-88F2-A6261FCA5A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CB5-57E3-447E-81C4-B93B1C66D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4F4-E663-44E2-9BCF-16D9C66C67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AD4-3583-44E0-B4AA-6002053C01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295-2DB5-44FD-B120-CC4B196F0C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31C-D942-4FC9-85E9-8D22D54078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FFB-B56B-45A7-9CB7-F068A8161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651-7E64-42D4-92A9-B505D4EA9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A77-4BE6-42B7-98B1-59FE6DC6D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F08-E61E-4500-BD5C-1D056208B3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C5C-1A2E-4A60-B5AE-038DF16C7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FA5C-7753-4EEB-9088-FDB06256C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82D9-461C-4D1A-8FF9-A604BB375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231D-9194-49F1-BFC8-4365C41F6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2486-8E17-4866-B4A1-C321D2F85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1C1-FD90-47D0-A550-F580F8C0D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FDE-3D14-4FBD-8A90-58907C075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38E1-ADAD-41C5-BD27-6E028F618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0E3-DF6C-4B18-B252-E5D67DB49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643-77FD-4328-BC6C-3B6F2031F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12D-723C-46A1-A22B-3061576DC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A1A-F73E-4F13-98D7-E75A82D8C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DBD-D937-458E-9D7D-C14BF60FA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DEAE-7310-48A9-BE13-FCF25A0634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ED51-5138-4845-B52A-8242622C0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F0F-D973-4ABC-89E0-E7CD3A4A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ED7-81B4-4054-A8EB-CF762B5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A7737-E16C-49D5-8BF5-510EE68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7BE3B-CCEA-45C7-8FB4-6A4F0458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F8FCC-4D71-48CF-A23F-97B5F46B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48ACB-3876-40C8-A124-2EE7E3F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02A41-C28A-40AA-8275-D4F7270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27168-E91D-4D9F-B224-C11C306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FA355-881E-4524-A7B0-7D9E001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E861E-2559-406C-BD33-B2E44C36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87FEC-5356-422F-A55E-D1E2E986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5EDDB-F627-4876-936C-CD7E7863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CD7-9B7C-436C-8C5F-2676548B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FE6B4-D2FF-406A-B059-FE81A3C7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13E71-A082-40D0-9F81-DAF67BC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2B2B-C442-44FD-9119-EBEF8EF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CF694-D83F-446D-9533-8AEF1F1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55D06-E68B-4039-B0CD-133ECCE5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2B1E1-1673-4C06-8A4E-452DED6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9F6C-21B8-4EBB-B31C-5D601B7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0B112-CF4B-43BB-8651-3B16BAF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74DB4-9BC7-44CD-83D2-2B4BA00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874F2-3054-4D11-8B72-4A42849E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ADC-DB21-4E16-A164-1F45E715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353BA-020D-428D-8DD6-078B9F1B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31FD3-485D-4C6D-96F1-9EAA498C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B4CD0-B4F5-413A-9D53-AC55567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CC61-1641-4B76-B7F2-1D2873A1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229D3-D59E-438D-96EA-E8578BD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8411-8227-4537-94F5-4CF518C3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5BAA-C7E5-46A9-BC3F-AA73868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A1083-B7BF-401C-AAC9-A0FC803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184E9-A963-4868-9216-5AE3338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31877-B724-45D1-A727-68D8B5A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AB2-725F-4A73-9CE6-1D45058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AE0FC-4DB5-4BE1-A1F9-424F846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A2E41-85A6-4397-A740-9A323565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40A1-A399-4CB3-8D09-C3844BC5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57A5A-9EE5-4DC5-BFE6-06EF9870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210FA-5101-47E0-8FCD-EB008867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527D8-96FF-4A10-921D-6F90495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8C7A2-E12E-4713-A6F0-7BD02A9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AE427-D55F-49CA-BA57-7F262DA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FFCC4-F88C-4552-925A-1658F6CC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EC768-5AF6-4EA3-BEE6-05CB57E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1B9-2004-41FB-8393-4728937C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8FEE9-C8D5-4C61-ABFF-3A240B7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4CCD2-FA50-41B2-948F-846B49F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B990-BB16-43D8-85AB-76D2241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47F87-862E-4BDC-BC30-6D7603C6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13858-66F4-4B98-8A84-44C9850C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EF05-9954-4B46-96CB-58E777F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65A-0F6B-4C2B-AF73-916CAAB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A8E0-82C2-4208-9251-0A968262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981D-139D-47E0-B3E7-E909E02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E71A-57C6-4AF5-87C8-07EF212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600-B23E-4196-83A5-C7D6F765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D20D-0AFB-43F6-BE23-17F7E90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D15-FCB0-450A-94C5-4A9736A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47AD-DDFE-4F7D-9797-EAEAC68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331A-D498-4FAD-A1CD-840C52D4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205-F15A-4E30-81A6-5EA438DC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A4AA-87A0-4D7E-B95F-140C420F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8698-9ABA-4317-AC62-84BCDD8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7B0C-D373-408D-B017-BB1AB66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ED53-EDF1-4562-BF99-B5B7316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092A-70AA-49BF-A464-60274C9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13E-CA3E-4155-8482-81E0D66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AA8A-69A4-45B7-9E64-5CCFE45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BB76-DE18-4792-AFC1-130AA1C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6BB0-0875-4AF5-9289-B2B82A0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84E5-A548-48F1-8758-1D744B7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6B2E-1759-4A38-8797-33DE78C1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2E87-C1E8-410B-A314-94A32D17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3D70-B27C-4517-A90F-25A21B15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4681-D66D-4CC9-B134-2258D179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B0719-A746-4CD8-A5DB-FC32742A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0AF4-2B3B-469E-8B3B-5417EA5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C54-661B-4CCC-90AF-7717D13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E531-8EFB-4583-B88C-EEFA22E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8D12-9CCA-4E86-8852-F2A844B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1AFD-F8A2-46AE-BE10-A43D621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6E78-7B84-4C83-9DE4-A56B543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2D32-0880-4AF0-8FCA-F67B348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5394-CAAF-42AA-9890-895C443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E3B2-D7AD-4DC2-8628-5C2EE20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2A3C-2C77-4C36-8FA7-7AC01896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2835-AB3D-4961-BCCE-743B89AA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E2D7-E641-42D9-B7BE-142B8D43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CBC-0F72-436A-B58E-8D21A464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66DB-826A-4845-9013-0AF5EA0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6132-0D8C-427F-A8D8-CF4A52F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FA35-A08E-4D14-B0BF-E74925F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7A79-0B8E-408D-AF5F-D50354D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5BA5-A857-4D00-AEF1-11F2727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792D-1FCD-41DF-A9C1-267C523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F35B-384F-45C7-9C1F-2083981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E94E-CDBB-4DDC-8A13-EC07841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731B-BDE0-49A2-B3EE-FE3F476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A7EF-8781-4235-80B2-848772BA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667-136F-44C2-8B0C-6320D4D0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03DE4-E692-4BCA-A500-190CA043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1393-DDB6-491D-AC04-3810BCDB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8E53-22EA-4C4F-81FB-77324B0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FB34-14F3-465C-A885-E517142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32DA-BCE7-48B6-8024-DB06C80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BF58-A0F9-4FB4-8576-1CAAABC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0A52-796D-444B-A42F-EDAC80B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BA9A7-2EAA-4527-8AD6-1CEF10A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129A-862E-485B-A79A-05BB147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7171-B798-4021-8411-74E143C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FB8-70FF-4B93-A669-DD89489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1C033-8EB5-4445-A57F-155A11C4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6BE6B-24A2-4578-A432-6B5687D9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5E3D-5702-49A0-BE0D-030D4011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1D4E-79DE-4939-BC8C-19D02D39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4A92-C9E3-4677-8736-73480ACA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8878-1134-426F-9CD3-E8FC307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F59E-A3DE-428B-9ED8-151A95B1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49F2-937C-4ECE-A6FF-7A97F344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C419-8D97-499D-9248-2876974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069B-8004-49A8-AB34-1D532C7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3B7-32AA-4E1F-A697-F8B10B4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A822-9FC0-48DE-B219-18AEB9D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15E80-213E-4344-AE28-69388CB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E2DEA-01D9-44F3-91B4-3C121E51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7014-A469-4E54-8ADA-7F5C58D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66F2-564F-430C-B01F-0FE8E0F0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A0EC1-5F79-4D89-AEC0-9FE04C68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B37F1-21E4-4273-B961-F6CE794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1D58-D333-4596-8633-0FBFDD7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74D0F-5B14-4422-9049-F0A301AB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3AC4-E19F-46E0-9BB5-CCA61A6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ED2-089E-45D9-B524-C4676A2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406B8-8D1F-47F7-99B4-DB053A3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95AF-7DBF-4FCE-9396-82FD71A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C6F4-0C07-4445-A426-CC23701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A480-8942-4ABC-8E0D-70A0587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74D0-AE9A-4F6B-A30E-18AC6DCE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8436-2442-44C1-9F25-B6B79A01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FFE6-B036-4EE5-97FA-B4A46BC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49A7E-30B7-4983-8BD2-311F992A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03A8-0D54-4F8B-8A31-373C0214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90269-DD96-4B98-A95F-078EF958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B23-1224-42C1-B95A-2ECB0EC23E9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0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3EF0-5F0A-4E6A-AFCC-CF0F793C537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5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155-4D15-4A37-B5DA-AF467A591D2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61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4DE-FAB6-4FD3-9085-A091B9CE350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6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C582-9C84-4999-8EC2-563FBF82BB2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1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287-41B2-467D-8ED1-A3FFBE099A1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7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C501-CD83-4C7D-9DC7-49D57528D23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2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8C0-DAB7-44A3-AC23-1F3D0091A82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8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EDBB-5E99-468E-866B-F9AF163F6DB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3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6F7-76FF-4D29-947B-823A5378CA8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9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197-3024-4662-8E24-A10D4D05627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44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14F-0F91-4AB6-BF6F-66BA4EC91DD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25" descr=""/>
          <p:cNvPicPr/>
          <p:nvPr/>
        </p:nvPicPr>
        <p:blipFill>
          <a:blip r:embed="rId1"/>
          <a:stretch/>
        </p:blipFill>
        <p:spPr>
          <a:xfrm>
            <a:off x="450720" y="3078000"/>
            <a:ext cx="8321760" cy="169560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7"/>
          <p:cNvSpPr/>
          <p:nvPr/>
        </p:nvSpPr>
        <p:spPr>
          <a:xfrm rot="3942000">
            <a:off x="155160" y="408600"/>
            <a:ext cx="1719000" cy="1463760"/>
          </a:xfrm>
          <a:prstGeom prst="rect">
            <a:avLst/>
          </a:prstGeom>
          <a:solidFill>
            <a:srgbClr val="fffaef"/>
          </a:solidFill>
          <a:ln w="9360">
            <a:solidFill>
              <a:srgbClr val="ff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riffonShadow"/>
              </a:rPr>
              <a:t>Technology in Teaching an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30"/>
          <p:cNvGrpSpPr/>
          <p:nvPr/>
        </p:nvGrpSpPr>
        <p:grpSpPr>
          <a:xfrm>
            <a:off x="0" y="1523880"/>
            <a:ext cx="9143640" cy="75960"/>
            <a:chOff x="0" y="1523880"/>
            <a:chExt cx="9143640" cy="75960"/>
          </a:xfrm>
        </p:grpSpPr>
        <p:sp>
          <p:nvSpPr>
            <p:cNvPr id="672" name="Line 31"/>
            <p:cNvSpPr/>
            <p:nvPr/>
          </p:nvSpPr>
          <p:spPr>
            <a:xfrm>
              <a:off x="0" y="152388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2"/>
            <p:cNvSpPr/>
            <p:nvPr/>
          </p:nvSpPr>
          <p:spPr>
            <a:xfrm>
              <a:off x="0" y="159984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PC and the Internet have advanced DE instruction b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dding interaction through email, conferences, and ch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ffering live and recorded streaming audio and vide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cluding multimedia presentations in cour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daptation of distance education methods and technology for use in  traditional classroo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nhances classroom instruction b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10960" indent="-223920">
              <a:spcBef>
                <a:spcPts val="751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owing master teachers or guests to join classes via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10960" indent="-223920">
              <a:spcBef>
                <a:spcPts val="751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acilitating team teaching and cooperative learning across a distric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9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42040" indent="-273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sign adjustments are needed for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se include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strategic instructional desig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that fully articulates the course components and required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well articulated lesson pla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that anticipates and responds to contingenci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10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1447920" y="19807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Extended preparatio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of students for participating in a distance environ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Well-planned and articulated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feedback syste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Contingency plans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for curriculum and technical proble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ternative, well defined and tested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evaluation proces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10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824760" indent="-268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Synchronous Support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ies that support instruction that occurs at the same tim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y be at the same or at different 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Asynchronous Support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ies that support time-shifted instruc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y be at the same or different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3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1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777240" y="2868480"/>
            <a:ext cx="26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cnchro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1068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10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5331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Telephone Technologi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Speakerphon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audio conferencing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let a small group in one location communicate with oth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Conference Call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llow people in multiple locations to communic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Phone bridg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let large groups communicate by calling into a single nu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Video Conferenci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pressed video conferencing system lets rooms of people interact via broadband phone 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C compressed video conferencing equipment and software allows individuals to participate  together at lower qua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strict-wide systems connect students in schools in interactive video classroo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12193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Internet Ch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ivate chat rooms can be created so invited students can interact with each 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hats may be text only or may include audio, visual, and video compon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hats offer the potential to involve everyone in high quality, thoughtful inte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Internet Classroom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 Antiqua"/>
              </a:rPr>
              <a:t>Internet meeting softwar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s used to create a virtual Internet classro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asses engage in discussion, materials exchange, presentations, and test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velopment time for creating an Internet class is significan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utcomes in terms of flexibility and innovation are worth the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delivery of instruction to students who are separated from their teacher by time and/or lo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teacher may be at one site and students at other s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r all may be on the same site but at different 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Telephone Technologi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Voicemail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provides time-shifted communic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Fax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allows hard copy transmission of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Rectangle 11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Emai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ows for teacher-student and student-student communi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es method for materials exchange through attachm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fer opportunity for thoughtful exchange by all participa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Book Antiqua"/>
              </a:rPr>
              <a:t>Electronic Conferenc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Virtual bulletin boar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at provide one-to-many communication support discu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Threa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can be started by the teache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be an assignment or can be generated by students in a virtual study grou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ocial learning and idea exchange is supported by this techn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6854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Class Web Sit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fer distance students a single virtual loc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 course information, tools, and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n alternative delivery enhancement to traditional cour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kes the course accessible at a time and place convenient to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Rectangle 10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15238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achers and/or students may not be ready for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roles and responsibilit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methods and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achers may need to adjust to increased time demands for planning and manage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Rectangle 12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294920" y="2133720"/>
            <a:ext cx="7239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ical support necessary but often not sufficiently anticipated or funde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Instructional support typical of a traditional setting may be less or absent in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Rectangle 11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New Copyright Issu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TEACH Act somewhat clarifies what can be copied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ten more restrictive than the Fair Use provision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necessary first step in copyright clarification for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Rectangle 11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11430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 has and is changing education b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nswering new demands on school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ing a variety of cour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ffectively teaching and learning outside defined physical spac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einventing the idea of a classroom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y bridges the time/location gap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 originally developed to deliver instruction to remote, rural 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oday, DE delivers instruction at places and times convenient to learn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1219320" y="281952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Place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419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DE impacts teachers by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ffering flexible licensing renewal and/or professional developme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hanging the parameters of instructio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No longer bounded by classroom wa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11426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 has impacted education b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Changing course offerings in higher edu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ncouraging creation of virtual high schools in many stat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upporting district-wide courses in virtual classroo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ing instruction to homebound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tarted as correspondence cours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eadings and assignments were sent via mai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sts were proctored locall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Learning was independent and isolate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adio and television were added to enrich DE instruc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lephones added interaction between instructor and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hone bridges added student-to-student interaction as wel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858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cregan</cp:lastModifiedBy>
  <dcterms:modified xsi:type="dcterms:W3CDTF">2010-03-23T18:12:46Z</dcterms:modified>
  <cp:revision>65</cp:revision>
  <dc:subject/>
  <dc:title>Theoretical Foundations</dc:title>
</cp:coreProperties>
</file>